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A14A-4496-4926-A846-9F10C7254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8C95-0EB0-4C31-93F8-AD83CE8E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EA74-C3C0-4FE5-9A4E-9F7E57D1B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A552-C5B0-4728-B4A6-C7DF42136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C6A7-DF7F-4D49-9FAB-65A478D96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37D2-F1EE-441B-905A-728F8935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C3A16-6A74-4B14-8EF5-4AB6A2A2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1FE9-4C0F-4543-9778-46E6340F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E9FF-9934-4206-916F-55018016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EC65-CA10-4391-922F-2047250C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79BA-B689-4036-8D74-8A93DD43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E114-324C-460B-AB02-B2EB9513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A50D-AC81-4F0D-A0F4-AE72B4B4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5B752-EE10-48B9-B95D-5BB010DC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C5B1-688B-4F3B-A861-BFD51CDE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BB759-9C23-468E-B447-FFD8F0117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D0F9-6822-4236-A9E0-0412F171F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2E56-6FC6-4904-9BD5-A70807B6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00A7-1ECD-4422-943A-8798C19E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A557-675B-4B75-AFEC-07E03DDA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4BA4-DC4A-4162-B95D-5A2A12E1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889B-B1E7-4608-B0A0-07EE8CCF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C164-11D0-4AA2-8422-29134F1F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1361-882A-4CF0-BDF6-7E9E34C7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630A-B3BD-4E50-9ADC-EE5FF4C216A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B2A6-4F1B-4AE6-B27D-B18387C7EE8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irect Instructio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livery m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dactic, expository, or traditional sty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wledge is                             passed on from                                those who know                               to those who don’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5297400" y="3352680"/>
            <a:ext cx="3084480" cy="2055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irect Instructio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xtbook rea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c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acher-centered                 questioning an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5181480" y="2209680"/>
            <a:ext cx="274500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irect Instructio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9036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nds to be used for teaching facts, rules, and action sequenc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nds to focus on teaching                                       units of the content so                                                  they can b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remember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nds to focus on the low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vels of the cognitive domai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estions tend to be convergent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3" descr="Two cognitive domains.png"/>
          <p:cNvPicPr/>
          <p:nvPr/>
        </p:nvPicPr>
        <p:blipFill>
          <a:blip r:embed="rId1"/>
          <a:srcRect l="0" t="0" r="49610" b="0"/>
          <a:stretch/>
        </p:blipFill>
        <p:spPr>
          <a:xfrm>
            <a:off x="6400800" y="2819520"/>
            <a:ext cx="1996920" cy="1685880"/>
          </a:xfrm>
          <a:prstGeom prst="rect">
            <a:avLst/>
          </a:prstGeom>
          <a:ln w="0">
            <a:noFill/>
          </a:ln>
        </p:spPr>
      </p:pic>
      <p:sp>
        <p:nvSpPr>
          <p:cNvPr id="118" name="Striped Right Arrow 4"/>
          <p:cNvSpPr/>
          <p:nvPr/>
        </p:nvSpPr>
        <p:spPr>
          <a:xfrm rot="19245000">
            <a:off x="6086520" y="4224240"/>
            <a:ext cx="762120" cy="533520"/>
          </a:xfrm>
          <a:custGeom>
            <a:avLst/>
            <a:gdLst/>
            <a:ahLst/>
            <a:rect l="l" t="t" r="r" b="b"/>
            <a:pathLst>
              <a:path w="762000" h="533400">
                <a:moveTo>
                  <a:pt x="0" y="133350"/>
                </a:moveTo>
                <a:lnTo>
                  <a:pt x="16669" y="133350"/>
                </a:lnTo>
                <a:lnTo>
                  <a:pt x="16669" y="400050"/>
                </a:lnTo>
                <a:lnTo>
                  <a:pt x="0" y="400050"/>
                </a:lnTo>
                <a:lnTo>
                  <a:pt x="0" y="133350"/>
                </a:lnTo>
                <a:close/>
                <a:moveTo>
                  <a:pt x="33338" y="133350"/>
                </a:moveTo>
                <a:lnTo>
                  <a:pt x="66675" y="133350"/>
                </a:lnTo>
                <a:lnTo>
                  <a:pt x="66675" y="400050"/>
                </a:lnTo>
                <a:lnTo>
                  <a:pt x="33338" y="400050"/>
                </a:lnTo>
                <a:lnTo>
                  <a:pt x="33338" y="133350"/>
                </a:lnTo>
                <a:close/>
                <a:moveTo>
                  <a:pt x="83344" y="133350"/>
                </a:moveTo>
                <a:lnTo>
                  <a:pt x="495300" y="133350"/>
                </a:lnTo>
                <a:lnTo>
                  <a:pt x="495300" y="0"/>
                </a:lnTo>
                <a:lnTo>
                  <a:pt x="762000" y="266700"/>
                </a:lnTo>
                <a:lnTo>
                  <a:pt x="495300" y="533400"/>
                </a:lnTo>
                <a:lnTo>
                  <a:pt x="495300" y="400050"/>
                </a:lnTo>
                <a:lnTo>
                  <a:pt x="83344" y="400050"/>
                </a:lnTo>
                <a:lnTo>
                  <a:pt x="83344" y="13335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irect Instructio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bstraction or concept to be taught is stated by the teache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befor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xamples are given, and then the examples are provided to help illustrate the abstrac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3200400" y="3944880"/>
            <a:ext cx="3240000" cy="2684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Sequence of a Direct Teach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3" name="Content Placeholder 3" descr=""/>
          <p:cNvPicPr/>
          <p:nvPr/>
        </p:nvPicPr>
        <p:blipFill>
          <a:blip r:embed="rId1"/>
          <a:stretch/>
        </p:blipFill>
        <p:spPr>
          <a:xfrm>
            <a:off x="1030320" y="1981080"/>
            <a:ext cx="761364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Advantages of Direct Teaching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cause the questioning tends to be convergent, this approach tends to be more time-efficient than indirect, discovery, or inquiry lessons that have a lot of groupwork and student interactio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cause it is teacher-directed, this type of lesson gives the teacher more control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ss skill in questioning is required; hence, there is less need for skilled classroom interaction.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3:25:38Z</dcterms:created>
  <dc:creator>Karen Verkler</dc:creator>
  <dc:description/>
  <dc:language>en-US</dc:language>
  <cp:lastModifiedBy>Karen Verkler</cp:lastModifiedBy>
  <dcterms:modified xsi:type="dcterms:W3CDTF">2013-09-08T00:05:13Z</dcterms:modified>
  <cp:revision>346</cp:revision>
  <dc:subject/>
  <dc:title>Slide 1</dc:title>
</cp:coreProperties>
</file>